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B6C5-A262-4E15-A5B9-F892BCBE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1E3B-8952-4AAF-9798-BED0E1A1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848F-38C0-4DE4-A05A-D6A91D7E7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F622-5CCC-4CE3-A876-B88EEE6B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52F1-80CB-49FD-8AD3-2B46CAF2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53C0-D2FD-48BC-AA46-D4171417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7B7F-F8E1-4DD0-8D4B-EC343A63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4123-53C3-4B2E-AFF0-74A395A0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25AB-BE7C-47FC-B132-D2663E5B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CD5F-9C8B-4B6C-B0B6-5DC90A03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D609-4B5A-440E-9529-21A90F49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CB01-3ED1-475B-853D-D0098E18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5dc9"/>
            </a:gs>
            <a:gs pos="100000">
              <a:srgbClr val="00006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94EA-1149-4C36-AB25-55E1C85CA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c"/>
            </a:gs>
            <a:gs pos="100000">
              <a:srgbClr val="035dc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33720" y="7010280"/>
            <a:ext cx="4495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JasmineUPC"/>
              </a:rPr>
              <a:t>สำนักงานคณะกรรมการพัฒนาการเศรษฐกิจและสังคมแห่งชาติ</a:t>
            </a:r>
            <a:endParaRPr b="1" lang="en-US" sz="2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JasmineUPC"/>
              <a:ea typeface="JasmineUPC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89640" y="6361200"/>
            <a:ext cx="2500920" cy="2508840"/>
            <a:chOff x="89640" y="6361200"/>
            <a:chExt cx="2500920" cy="2508840"/>
          </a:xfrm>
        </p:grpSpPr>
        <p:grpSp>
          <p:nvGrpSpPr>
            <p:cNvPr id="43" name=""/>
            <p:cNvGrpSpPr/>
            <p:nvPr/>
          </p:nvGrpSpPr>
          <p:grpSpPr>
            <a:xfrm>
              <a:off x="89640" y="6361200"/>
              <a:ext cx="2493720" cy="2508840"/>
              <a:chOff x="89640" y="6361200"/>
              <a:chExt cx="2493720" cy="2508840"/>
            </a:xfrm>
          </p:grpSpPr>
          <p:sp>
            <p:nvSpPr>
              <p:cNvPr id="44" name=""/>
              <p:cNvSpPr/>
              <p:nvPr/>
            </p:nvSpPr>
            <p:spPr>
              <a:xfrm>
                <a:off x="703080" y="7891200"/>
                <a:ext cx="520560" cy="455040"/>
              </a:xfrm>
              <a:prstGeom prst="ellipse">
                <a:avLst/>
              </a:prstGeom>
              <a:gradFill rotWithShape="0">
                <a:gsLst>
                  <a:gs pos="0">
                    <a:srgbClr val="89cfff"/>
                  </a:gs>
                  <a:gs pos="100000">
                    <a:srgbClr val="008bea">
                      <a:alpha val="5019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16880" y="8538480"/>
                <a:ext cx="520560" cy="72000"/>
              </a:xfrm>
              <a:prstGeom prst="ellipse">
                <a:avLst/>
              </a:prstGeom>
              <a:gradFill rotWithShape="0">
                <a:gsLst>
                  <a:gs pos="0">
                    <a:srgbClr val="0066d6">
                      <a:alpha val="50196"/>
                    </a:srgbClr>
                  </a:gs>
                  <a:gs pos="100000">
                    <a:srgbClr val="3e8bd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 txBox="1"/>
              <p:nvPr/>
            </p:nvSpPr>
            <p:spPr>
              <a:xfrm rot="18811800">
                <a:off x="509400" y="7258320"/>
                <a:ext cx="1458720" cy="1083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RingOutside">
                  <a:avLst>
                    <a:gd name="adj" fmla="val 93315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ffffff">
                            <a:alpha val="50196"/>
                          </a:srgbClr>
                        </a:gs>
                        <a:gs pos="100000">
                          <a:srgbClr val="5daa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>
                          <a:alpha val="80000"/>
                        </a:srgbClr>
                      </a:outerShdw>
                    </a:effectLst>
                    <a:latin typeface="Arial Black"/>
                  </a:rPr>
                  <a:t>PUBLIC    SERVICE    AGREEMENT     </a:t>
                </a:r>
                <a:endParaRPr b="1" lang="en-US" sz="2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50196"/>
                        </a:srgbClr>
                      </a:gs>
                      <a:gs pos="100000">
                        <a:srgbClr val="5daa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47" name=""/>
              <p:cNvSpPr txBox="1"/>
              <p:nvPr/>
            </p:nvSpPr>
            <p:spPr>
              <a:xfrm rot="18811800">
                <a:off x="350280" y="6832440"/>
                <a:ext cx="1972080" cy="1566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RingOutside">
                  <a:avLst>
                    <a:gd name="adj" fmla="val 96426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ffffff">
                            <a:alpha val="50196"/>
                          </a:srgbClr>
                        </a:gs>
                        <a:gs pos="100000">
                          <a:srgbClr val="6db3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>
                          <a:alpha val="80000"/>
                        </a:srgbClr>
                      </a:outerShdw>
                    </a:effectLst>
                    <a:latin typeface="Arial Black"/>
                  </a:rPr>
                  <a:t>THE   OFFICE    OF   ECONOMIC   AND   SOCIAL   DEVELOPMENT    BOARD     </a:t>
                </a:r>
                <a:endParaRPr b="1" lang="en-US" sz="2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50196"/>
                        </a:srgbClr>
                      </a:gs>
                      <a:gs pos="100000">
                        <a:srgbClr val="6db3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1902600" y="7832160"/>
              <a:ext cx="362160" cy="282960"/>
            </a:xfrm>
            <a:prstGeom prst="rect">
              <a:avLst/>
            </a:prstGeom>
            <a:solidFill>
              <a:srgbClr val="008b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2800" y="8081280"/>
              <a:ext cx="306360" cy="245880"/>
            </a:xfrm>
            <a:prstGeom prst="rect">
              <a:avLst/>
            </a:prstGeom>
            <a:solidFill>
              <a:srgbClr val="008b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31720" y="8296560"/>
              <a:ext cx="222480" cy="172440"/>
            </a:xfrm>
            <a:prstGeom prst="rect">
              <a:avLst/>
            </a:prstGeom>
            <a:solidFill>
              <a:srgbClr val="008b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5600" y="7160040"/>
              <a:ext cx="289800" cy="318240"/>
            </a:xfrm>
            <a:prstGeom prst="rect">
              <a:avLst/>
            </a:prstGeom>
            <a:solidFill>
              <a:srgbClr val="008b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3240" y="7549200"/>
              <a:ext cx="217080" cy="247680"/>
            </a:xfrm>
            <a:prstGeom prst="rect">
              <a:avLst/>
            </a:prstGeom>
            <a:solidFill>
              <a:srgbClr val="008b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0880" y="7872120"/>
              <a:ext cx="217080" cy="207720"/>
            </a:xfrm>
            <a:prstGeom prst="rect">
              <a:avLst/>
            </a:prstGeom>
            <a:solidFill>
              <a:srgbClr val="008be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28400" y="7584480"/>
              <a:ext cx="362160" cy="282960"/>
            </a:xfrm>
            <a:prstGeom prst="rect">
              <a:avLst/>
            </a:prstGeom>
            <a:solidFill>
              <a:srgbClr val="008b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97960" y="6664680"/>
              <a:ext cx="325800" cy="388800"/>
            </a:xfrm>
            <a:prstGeom prst="rect">
              <a:avLst/>
            </a:prstGeom>
            <a:solidFill>
              <a:srgbClr val="008b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590920" y="7315200"/>
            <a:ext cx="3504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owallia New"/>
              </a:rPr>
              <a:t>962</a:t>
            </a:r>
            <a:r>
              <a:rPr b="1" lang="th-TH" sz="2000" spc="-1" strike="noStrike">
                <a:solidFill>
                  <a:srgbClr val="ffffff"/>
                </a:solidFill>
                <a:latin typeface="Browallia New"/>
              </a:rPr>
              <a:t> </a:t>
            </a:r>
            <a:r>
              <a:rPr b="1" lang="th-TH" sz="2000" spc="-1" strike="noStrike">
                <a:solidFill>
                  <a:srgbClr val="ffffff"/>
                </a:solidFill>
                <a:latin typeface="Browallia New"/>
              </a:rPr>
              <a:t>ถนนกรุงเกษม แขวงวัดโสมนั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Browallia New"/>
              </a:rPr>
              <a:t>เขตป้อมปราบศัตรูพ่าย กรุงเทพฯ </a:t>
            </a:r>
            <a:r>
              <a:rPr b="1" lang="en-US" sz="2000" spc="-1" strike="noStrike">
                <a:solidFill>
                  <a:srgbClr val="ffffff"/>
                </a:solidFill>
                <a:latin typeface="Browallia New"/>
              </a:rPr>
              <a:t>10100</a:t>
            </a:r>
            <a:r>
              <a:rPr b="1" lang="th-TH" sz="2000" spc="-1" strike="noStrike">
                <a:solidFill>
                  <a:srgbClr val="ffffff"/>
                </a:solidFill>
                <a:latin typeface="Browallia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owallia New"/>
              </a:rPr>
              <a:t>http</a:t>
            </a:r>
            <a:r>
              <a:rPr b="1" lang="th-TH" sz="2000" spc="-1" strike="noStrike">
                <a:solidFill>
                  <a:srgbClr val="ffffff"/>
                </a:solidFill>
                <a:latin typeface="Browallia New"/>
              </a:rPr>
              <a:t>://</a:t>
            </a:r>
            <a:r>
              <a:rPr b="1" lang="en-US" sz="2000" spc="-1" strike="noStrike">
                <a:solidFill>
                  <a:srgbClr val="ffffff"/>
                </a:solidFill>
                <a:latin typeface="Browallia New"/>
              </a:rPr>
              <a:t>www</a:t>
            </a:r>
            <a:r>
              <a:rPr b="1" lang="th-TH" sz="2000" spc="-1" strike="noStrike">
                <a:solidFill>
                  <a:srgbClr val="ffffff"/>
                </a:solidFill>
                <a:latin typeface="Browallia New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Browallia New"/>
              </a:rPr>
              <a:t>nesdb</a:t>
            </a:r>
            <a:r>
              <a:rPr b="1" lang="th-TH" sz="2000" spc="-1" strike="noStrike">
                <a:solidFill>
                  <a:srgbClr val="ffffff"/>
                </a:solidFill>
                <a:latin typeface="Browallia New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Browallia New"/>
              </a:rPr>
              <a:t>go</a:t>
            </a:r>
            <a:r>
              <a:rPr b="1" lang="th-TH" sz="2000" spc="-1" strike="noStrike">
                <a:solidFill>
                  <a:srgbClr val="ffffff"/>
                </a:solidFill>
                <a:latin typeface="Browallia New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Browallia New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16:35:54Z</dcterms:created>
  <dc:creator>win</dc:creator>
  <dc:description/>
  <dc:language>en-US</dc:language>
  <cp:lastModifiedBy>iLLuSioN</cp:lastModifiedBy>
  <dcterms:modified xsi:type="dcterms:W3CDTF">2006-02-23T06:38:21Z</dcterms:modified>
  <cp:revision>17</cp:revision>
  <dc:subject/>
  <dc:title>Slide 1</dc:title>
</cp:coreProperties>
</file>